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B51-5BB8-4457-8B3F-0AB9E99C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742-BA00-412D-9DDD-C2B8EE90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F21-08F4-4D52-8F5C-148459C4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DB6-DF90-49F1-97BC-94870694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660-57C9-436E-A49B-7686CCF5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30B-20BA-4D10-B790-327067F0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0BF-8F72-4A27-BD23-654096CD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38A-B4FA-4252-800C-CED94D28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9CC-FA7C-42A4-8E54-B0DECE36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7EA-1013-4A32-AFD9-A3D2230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746-0D55-4FCE-8F45-5A00D66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87E-11AC-42BA-ADA3-57C1AFF4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9B6-059C-461A-B2BA-5C4BFC7DFCC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C3AB-D1B6-4B79-BC58-E2D8F4EC6B0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04640"/>
            <a:ext cx="67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м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к һәм ботка, чәй һәм кофе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иң кадерле, иң кирәк, иң тәмле ризык. Башак ипи 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отка     булып өстәлгә    килгәнче зур юл 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пи басуда үсә, ә аны үстерүдә күп ке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ешеләр зур хезмәт куя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Хәзер кешегә машиналар ярдәмгә килә. Бары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үстерү авыр эш булып к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кмәк – ил тотк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пи-тоз – якты йөз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з икмәкне олыларга, кадерләргә тиеш. Икмәкне үстергә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пешергән кешеләрне хөрмәт  итәргә тиешб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Камыр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B3B4-2FFC-419F-9615-BA0B18D38C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Камыр басала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DA73-029C-448C-BB2F-503672A3B5C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Икмәкне өйдә дә пешереп бу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320C-E1BB-4F7E-BCCA-61F42440E2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Икмәк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EEC-704E-4FC4-85E8-9B1C72D521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Arial"/>
              </a:rPr>
              <a:t>И</a:t>
            </a:r>
            <a:r>
              <a:rPr b="1" lang="tt-RU" sz="9600" spc="-1" strike="noStrike">
                <a:solidFill>
                  <a:srgbClr val="e46c0a"/>
                </a:solidFill>
                <a:latin typeface="Arial"/>
              </a:rPr>
              <a:t>кмәк кайдан килә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4C5-8A87-4A94-BAB2-37B6183B91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лыкларны чәчәлә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E0C8-E16C-4448-9C73-7376EB11AB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лар ярдәмгә килә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1548-B536-4E6C-8F38-AA933D1B8A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Шушындый башаклар үсеп чы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Нижний колонтитул 5"/>
          <p:cNvSpPr/>
          <p:nvPr/>
        </p:nvSpPr>
        <p:spPr>
          <a:xfrm>
            <a:off x="3203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0DFB-5949-4603-A8F8-3D68EAF1FE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Башакларны 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мбайн</a:t>
            </a: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нар җыя.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D705-3020-4C34-A7A8-D1219786B0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Уңышны тегермәнгә илтәлә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394-8579-442E-B088-6C87E60AAC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Орлыклардан он ясыйл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64F3-6117-441A-97D8-880454FBA3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Оннан икмәк пешерәләр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336B-7B17-4183-BC66-F1B6093754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FuckYouBill</cp:lastModifiedBy>
  <dcterms:modified xsi:type="dcterms:W3CDTF">2013-01-13T06:58:39Z</dcterms:modified>
  <cp:revision>31</cp:revision>
  <dc:subject/>
  <dc:title>Откуда к нам хлеб пришёл</dc:title>
</cp:coreProperties>
</file>